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5C605-B791-44CA-91E9-ECC5D8518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20D79-18F4-4D2B-AC52-C6B36C613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CC18C-64EC-4507-86AB-50C8D9F56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3D2AC-5C51-4503-AB78-98FE289AF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61DF9-BAF3-49A0-9B8D-507FA73EA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F415B-150A-4467-ADB3-59FFF98F1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C9A9D-696A-4414-B60B-679C9D239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3048E-1C76-4C94-BCEB-99A1BD15A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2BA46-2297-4A52-9AB0-EE911FAE5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F24F1-0E92-4F69-8896-9556D2D42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98428-2A64-48C7-99A2-FC83A19B7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266A5-18C2-4A7A-B28D-458035829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560" y="6400800"/>
            <a:ext cx="380988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Bruce Scharlau, University of Aberdeen,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6535F-1258-45E2-A6FA-450088EBF16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创新项目探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--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头脑风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服务大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现实虚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快捷便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6T17:08:42Z</dcterms:created>
  <dc:creator/>
  <dc:description/>
  <dc:language>en-US</dc:language>
  <cp:lastModifiedBy>杨刚</cp:lastModifiedBy>
  <cp:lastPrinted>2009-04-22T19:24:48Z</cp:lastPrinted>
  <dcterms:modified xsi:type="dcterms:W3CDTF">2017-04-26T05:15:28Z</dcterms:modified>
  <cp:revision>9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